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8A7-FAF0-4C5D-9A51-20A5B494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ACB-E2AB-4C74-9D43-8A9F24D6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A30-F39F-418D-9F18-F4FE9311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82D-5A01-49B7-908A-9ACE5CF0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F3E-80BA-4D47-9DD5-685BEAAB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C202-926E-48A5-8AB0-2186FED6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823-7355-4F61-8C36-36B22A3F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A86-A10A-4368-BB58-4B3EC3A8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CD02-82C3-4F44-948F-7CEC647D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FA8-256C-460A-9CEF-D078B937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2DA-7246-48A2-A285-AF1F2A66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DD2-C65B-4C48-8669-768E10B2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3396-C58F-4917-AC86-50AC31164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1469520"/>
            <a:ext cx="6629400" cy="39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Unit 7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 are you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Section 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028520" y="148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at ho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Arial"/>
                <a:ea typeface="宋体"/>
              </a:rPr>
              <a:t>在家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1" descr=""/>
          <p:cNvPicPr/>
          <p:nvPr/>
        </p:nvPicPr>
        <p:blipFill>
          <a:blip r:embed="rId2"/>
          <a:stretch/>
        </p:blipFill>
        <p:spPr>
          <a:xfrm>
            <a:off x="4343400" y="2362320"/>
            <a:ext cx="3541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028520" y="148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at schoo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Arial"/>
                <a:ea typeface="宋体"/>
              </a:rPr>
              <a:t>在学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2734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028520" y="148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in the classroom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Times New Roman"/>
                <a:ea typeface="宋体"/>
              </a:rPr>
              <a:t> </a:t>
            </a:r>
            <a:r>
              <a:rPr b="0" lang="zh-CN" sz="6600" spc="-1" strike="noStrike">
                <a:solidFill>
                  <a:srgbClr val="c00000"/>
                </a:solidFill>
                <a:latin typeface="Arial"/>
                <a:ea typeface="宋体"/>
              </a:rPr>
              <a:t>在教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3" descr=""/>
          <p:cNvPicPr/>
          <p:nvPr/>
        </p:nvPicPr>
        <p:blipFill>
          <a:blip r:embed="rId2"/>
          <a:srcRect l="0" t="0" r="0" b="12169"/>
          <a:stretch/>
        </p:blipFill>
        <p:spPr>
          <a:xfrm>
            <a:off x="4583160" y="3048120"/>
            <a:ext cx="34941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028520" y="148860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in the pa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Arial"/>
                <a:ea typeface="宋体"/>
              </a:rPr>
              <a:t>在公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1" descr=""/>
          <p:cNvPicPr/>
          <p:nvPr/>
        </p:nvPicPr>
        <p:blipFill>
          <a:blip r:embed="rId2"/>
          <a:srcRect l="0" t="0" r="0" b="11267"/>
          <a:stretch/>
        </p:blipFill>
        <p:spPr>
          <a:xfrm>
            <a:off x="4419720" y="2633760"/>
            <a:ext cx="34239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670536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句子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Times New Roman"/>
                <a:ea typeface="宋体"/>
              </a:rPr>
              <a:t>senten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066320" y="15238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Let’s call Wang Li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让我们打电话给王丽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" descr=""/>
          <p:cNvPicPr/>
          <p:nvPr/>
        </p:nvPicPr>
        <p:blipFill>
          <a:blip r:embed="rId2"/>
          <a:stretch/>
        </p:blipFill>
        <p:spPr>
          <a:xfrm>
            <a:off x="5257800" y="3352680"/>
            <a:ext cx="282240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066320" y="15238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What’s her number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她的电话号码是多少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2857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066320" y="15238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What’s his number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他的电话号码是多少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388620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066320" y="15238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is Zhou Lin. May I speak to Amy, pleas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我是周林，能让艾米接电话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5119560" y="3962520"/>
            <a:ext cx="27133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142640" y="9140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Speaking. Where are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请说。你在哪里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2"/>
          <a:srcRect l="6265" t="4758" r="0" b="8478"/>
          <a:stretch/>
        </p:blipFill>
        <p:spPr>
          <a:xfrm>
            <a:off x="5562720" y="3432240"/>
            <a:ext cx="218124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1066680"/>
            <a:ext cx="701028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词汇</a:t>
            </a:r>
            <a:br>
              <a:rPr sz="7200"/>
            </a:b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宋体"/>
              </a:rPr>
              <a:t>Vocabulary</a:t>
            </a:r>
            <a:br>
              <a:rPr sz="48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1080" y="8377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040" y="228564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将重点词汇每个抄写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遍，重点句型每个抄写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和同桌将本课对话进行多次操练，直至熟练程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用英文记住家里的电话号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987960"/>
          </a:xfrm>
          <a:prstGeom prst="rect">
            <a:avLst/>
          </a:prstGeom>
          <a:ln w="0">
            <a:noFill/>
          </a:ln>
        </p:spPr>
      </p:pic>
      <p:pic>
        <p:nvPicPr>
          <p:cNvPr id="98" name="矩形 3" descr=""/>
          <p:cNvPicPr/>
          <p:nvPr/>
        </p:nvPicPr>
        <p:blipFill>
          <a:blip r:embed="rId2"/>
          <a:stretch/>
        </p:blipFill>
        <p:spPr>
          <a:xfrm>
            <a:off x="804960" y="2646360"/>
            <a:ext cx="7534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57440" y="2285640"/>
            <a:ext cx="289548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  <a:ea typeface="宋体"/>
              </a:rPr>
              <a:t>par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3352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00240" y="2286000"/>
            <a:ext cx="33526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  <a:ea typeface="宋体"/>
              </a:rPr>
              <a:t>schoo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2"/>
          <a:srcRect l="2077" t="16726" r="5799" b="13061"/>
          <a:stretch/>
        </p:blipFill>
        <p:spPr>
          <a:xfrm>
            <a:off x="1295280" y="2514600"/>
            <a:ext cx="32767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57440" y="2286000"/>
            <a:ext cx="28954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  <a:ea typeface="宋体"/>
              </a:rPr>
              <a:t>hom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2962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43040" y="2285640"/>
            <a:ext cx="350532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  <a:ea typeface="宋体"/>
              </a:rPr>
              <a:t>cal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508040" y="2286000"/>
            <a:ext cx="3444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1640" y="2285640"/>
            <a:ext cx="380988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  <a:ea typeface="宋体"/>
              </a:rPr>
              <a:t>hell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1733400" y="2209680"/>
            <a:ext cx="314352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0" y="2607840"/>
            <a:ext cx="373392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  <a:ea typeface="宋体"/>
              </a:rPr>
              <a:t>numb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rcRect l="8929" t="0" r="0" b="12297"/>
          <a:stretch/>
        </p:blipFill>
        <p:spPr>
          <a:xfrm>
            <a:off x="914400" y="2521080"/>
            <a:ext cx="38098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129528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短语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Times New Roman"/>
                <a:ea typeface="宋体"/>
              </a:rPr>
              <a:t>Phrase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7T00:31:19Z</dcterms:created>
  <dc:creator/>
  <dc:description/>
  <dc:language>en-US</dc:language>
  <cp:lastModifiedBy/>
  <dcterms:modified xsi:type="dcterms:W3CDTF">2015-07-21T04:50:32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